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93E-6055-40D4-A2BD-25D0212F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PositionControl *p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Encoders *enc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ControlMode *ictr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ImpedanceControl *ii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TorqueControl *itrq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D94F-0061-4C50-9F20-C53F3AED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693-3288-4E11-AB9C-1488B71B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20A-2419-4A82-A7BF-CA449DCA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895-461A-4343-9067-A89BF52D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900-B441-476D-BAA5-413CB8D5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9C5-D7FB-45CF-B765-11F8D2E0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B81-FBA7-48E0-BBF6-63BEAC93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359-5765-45E3-B5FA-D7959E3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A71-024E-49AF-8F6B-1392DE6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9000"/>
            <a:ext cx="8232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185-D812-44F4-B7B8-D89DF15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46B-DE7C-4943-B30F-5B61C06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330-09DE-4AB2-ACDB-35724B7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0DD-C15D-42FC-A2B3-33366EA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093-8247-4591-A76C-BA8A0E52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rce Motor Contro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VV2011 Tutori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rancesco Nor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281320" y="1581120"/>
            <a:ext cx="1393920" cy="1087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08760" y="1549440"/>
            <a:ext cx="1393920" cy="10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4222440" y="2400480"/>
            <a:ext cx="149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pos 0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vel 1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t enc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12"/>
          <p:cNvSpPr/>
          <p:nvPr/>
        </p:nvSpPr>
        <p:spPr>
          <a:xfrm>
            <a:off x="3819600" y="2017800"/>
            <a:ext cx="2138400" cy="411120"/>
          </a:xfrm>
          <a:prstGeom prst="rightArrow">
            <a:avLst>
              <a:gd name="adj1" fmla="val 50000"/>
              <a:gd name="adj2" fmla="val 4994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13"/>
          <p:cNvSpPr/>
          <p:nvPr/>
        </p:nvSpPr>
        <p:spPr>
          <a:xfrm rot="10800000">
            <a:off x="3816000" y="1647720"/>
            <a:ext cx="2141640" cy="409680"/>
          </a:xfrm>
          <a:prstGeom prst="rightArrow">
            <a:avLst>
              <a:gd name="adj1" fmla="val 50000"/>
              <a:gd name="adj2" fmla="val 500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209120" y="969840"/>
            <a:ext cx="1011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c is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394280" y="1009800"/>
            <a:ext cx="240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026400" y="1025640"/>
            <a:ext cx="232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er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778360" y="609480"/>
            <a:ext cx="2959200" cy="3468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5791680" y="225360"/>
            <a:ext cx="176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/iCu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1871640" y="4240080"/>
            <a:ext cx="3076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5688360" y="4240080"/>
            <a:ext cx="3009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804600" y="1411200"/>
            <a:ext cx="1688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osi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locity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IControl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Torque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Impedance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61960" y="457200"/>
            <a:ext cx="127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552600" y="969840"/>
            <a:ext cx="3395520" cy="294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2240640" y="15825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Encode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049720" y="1792440"/>
            <a:ext cx="2729160" cy="31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365880" y="2873520"/>
            <a:ext cx="1249200" cy="149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962680" y="18302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6571440" y="2944800"/>
            <a:ext cx="98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iceDri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135520" y="2387520"/>
            <a:ext cx="168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(pa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13"/>
          <p:cNvCxnSpPr/>
          <p:nvPr/>
        </p:nvCxnSpPr>
        <p:spPr>
          <a:xfrm>
            <a:off x="4064040" y="2558520"/>
            <a:ext cx="154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14"/>
          <p:cNvCxnSpPr/>
          <p:nvPr/>
        </p:nvCxnSpPr>
        <p:spPr>
          <a:xfrm>
            <a:off x="4041360" y="4601880"/>
            <a:ext cx="154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15"/>
          <p:cNvSpPr/>
          <p:nvPr/>
        </p:nvSpPr>
        <p:spPr>
          <a:xfrm>
            <a:off x="2044800" y="437688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7"/>
          <p:cNvCxnSpPr/>
          <p:nvPr/>
        </p:nvCxnSpPr>
        <p:spPr>
          <a:xfrm flipH="1">
            <a:off x="4025520" y="2987280"/>
            <a:ext cx="156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21"/>
          <p:cNvSpPr/>
          <p:nvPr/>
        </p:nvSpPr>
        <p:spPr>
          <a:xfrm>
            <a:off x="1952280" y="280980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1952280" y="322272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6367680" y="313524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35"/>
          <p:cNvCxnSpPr/>
          <p:nvPr/>
        </p:nvCxnSpPr>
        <p:spPr>
          <a:xfrm>
            <a:off x="3859200" y="385884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36"/>
          <p:cNvSpPr/>
          <p:nvPr/>
        </p:nvSpPr>
        <p:spPr>
          <a:xfrm>
            <a:off x="1950840" y="36226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7"/>
          <p:cNvSpPr/>
          <p:nvPr/>
        </p:nvSpPr>
        <p:spPr>
          <a:xfrm>
            <a:off x="1950840" y="39877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38"/>
          <p:cNvCxnSpPr/>
          <p:nvPr/>
        </p:nvCxnSpPr>
        <p:spPr>
          <a:xfrm>
            <a:off x="3871800" y="4130280"/>
            <a:ext cx="236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Rectangle 39"/>
          <p:cNvSpPr/>
          <p:nvPr/>
        </p:nvSpPr>
        <p:spPr>
          <a:xfrm>
            <a:off x="1828800" y="1862280"/>
            <a:ext cx="227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1793880" y="1793880"/>
            <a:ext cx="2433600" cy="331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52"/>
          <p:cNvCxnSpPr/>
          <p:nvPr/>
        </p:nvCxnSpPr>
        <p:spPr>
          <a:xfrm flipH="1">
            <a:off x="4034880" y="3447720"/>
            <a:ext cx="153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Position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152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Velocity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152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Torque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152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Impedance Position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8027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Impedance Velocity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2" descr=""/>
          <p:cNvPicPr/>
          <p:nvPr/>
        </p:nvPicPr>
        <p:blipFill>
          <a:blip r:embed="rId1"/>
          <a:stretch/>
        </p:blipFill>
        <p:spPr>
          <a:xfrm>
            <a:off x="378000" y="1407960"/>
            <a:ext cx="876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</dc:creator>
  <dc:description/>
  <dc:language>en-US</dc:language>
  <cp:lastModifiedBy>iron</cp:lastModifiedBy>
  <dcterms:modified xsi:type="dcterms:W3CDTF">2011-07-22T10:03:24Z</dcterms:modified>
  <cp:revision>17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